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21B7E-B5D4-423C-B9D4-390D168EC0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69EB0-9F91-4FA5-9C59-F802C831A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AB732-A73C-4F91-BDDA-AC226B96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AC177-CB02-4F55-82C4-6C8AB1B6F2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9D5F7-765C-4890-A33B-9FCEC8A07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CAC44-91B2-4579-9576-59BBC6DA7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DECAB-6897-4D92-AA8E-D915346C0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8BE24-AC35-44B4-83A4-5DB0D1FD0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9D1D5-9DF8-4E22-815A-3E9D80B6D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6E0C1-8FCC-4292-B557-403A1819B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03B8F-08D1-42A2-85DA-93F642F9B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0474A-2E5F-4527-8F33-D2F82EF72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0CB28-36E8-4CD7-832F-BA63B4BF482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处理伤口，及时止血、包扎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与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禁饮、禁灌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抗生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镇静止痛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术前准备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及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密观察病情变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抗生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和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普及急救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损伤可由刀刺等锐器伤引起，闭合性损伤可由碰撞等钝性暴力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质性脏器损伤的典型特点是以腹腔内出血为主，腹腔穿刺可以抽出大量不凝的血液。空腔脏器损伤主要以腹膜刺激征表现为主。常见脏器损伤包括脾破裂、肝破裂、胰腺损伤和肠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抢救生命，然后处理腹部损伤。若有内脏脱出，应用消毒器皿覆盖保护脱出的内脏，简单包扎后积极转运。已确诊或高度怀疑内脏损伤者急诊手术。非手术治疗期间应严密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医师进行急救。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期间，应注意观察病情变化、卧床休息、遵医嘱禁食补液、抗感染、镇静止痛、提供心理支持、完善术前准备。术后注意监测病情变化，抗感染，禁食、胃肠减压，做好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腹部损伤的分类和常见致伤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腹部实质性脏器损伤和空腔性脏器损伤临床表现的异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说明腹部损伤的急救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腹部损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8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晚餐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被人用木棍打伤腹部，腹部疼痛持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由家人送医院就诊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8.6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90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面色苍白，右侧中上腹见长形青紫瘀斑，腹胀明显，呈板状，移动性浊音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肠鸣音减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：腹腔积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穿刺液检验：黄色、微浑，白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+++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红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±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质性脏器损伤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空腔脏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膜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见脏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脾、肝、胰、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腹腔穿刺术和腹腔灌洗术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影像学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腹腔镜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应处理对生命威胁最大的伤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8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小肠破裂，急诊行小肠一期缝合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护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问题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 与损伤致腹腔内出血、各种损伤脏器内容物渗出及呕吐、禁食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 与腹部积液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休克、腹膜炎、腹腔脓肿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35:29Z</dcterms:modified>
  <cp:revision>91</cp:revision>
  <dc:subject/>
  <dc:title>内科护理学</dc:title>
</cp:coreProperties>
</file>